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25.png" ContentType="image/png"/>
  <Override PartName="/ppt/media/image24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.wmf" ContentType="image/x-wmf"/>
  <Override PartName="/ppt/media/image6.png" ContentType="image/png"/>
  <Override PartName="/ppt/media/image14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AF89E8-49C9-4C55-B06A-4E77E0A1555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the currently enabled tran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them, which state would their firing lead t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32F518-E99D-4D38-9E64-F3A6C1FB82B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questo caso non è possibi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E6B21C-D0DF-451A-8AEF-E98DCD184EA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C905139B-55ED-46C4-AE10-B6DB32CD6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Espace réservé du pied de page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9EFA5C71-2BDA-4C08-ADD6-1F641D51E0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Espace réservé du pied de page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4BF-6274-47CE-B1EF-AA30F7E6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988-D650-49F7-9C2A-74D5C68F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040-E705-4689-B594-269E4113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475-AF51-49DF-B07B-3ACA383E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D8BC-7B9B-4C09-8598-4FB57065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A5AE-AE08-41C3-BF86-E02765C4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FBEE-783A-481A-A369-2BFC7897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B0A8-39C8-40BE-A508-BA363FFD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D3AB-C8D1-49DE-B9B0-6E30BDD8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AE85-9307-4121-8DED-88F6C68D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32B1-2F9C-4B8E-8CCA-07A04550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DF5-06F2-4BFB-ACE8-0134113A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D9CE-43EA-4F21-9A55-6CFD393F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2990-9450-4632-82C2-308C7451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C3C3-D256-4968-9C25-BEA2BD90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7A15-8886-45ED-85EB-33F758C9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702D-C6B9-4932-824A-3D12B05A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07149-864B-498B-B504-6A74A508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F91F-3C93-4565-98A6-B34B6427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8E08D-1F4A-408A-A23E-3A64C460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498FE-F6E4-4E15-B808-05AE5DCC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7D3B-B743-43F4-ACDA-904EA9D5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058-7B92-4363-827F-6290B18D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A7F23-09FE-485C-812C-CE6CE9FC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C393-6A33-4882-ABE6-6AA7238F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B384-C948-4B94-8FCF-20AA6EB2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49382-CAA5-4976-8ED6-262B1F47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39255-28B7-4859-B180-F914B83E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91DB8-1AF3-4F85-BB5F-045838A2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44D0F-C146-433C-9A25-B708184F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2208B-1BE0-4D0E-8666-0808CEA9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38D66-0451-47B4-9B62-857CE8AF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EA6BA-5020-4CE1-949E-50497B9E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42C-8B80-47B9-BF49-4A9FFC2E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AAE5E-E290-4CD7-BEB3-BE38E3A5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F2005-D156-4F3A-A69C-9A6D2C21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A9113-1918-40D6-8929-5AE7CD45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8ECC4-6E0E-48A3-86C8-ECF00B18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8FCF4-5BF6-464B-94C2-A9D7F3AF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F6031-E4A5-44AB-9A6E-E43EA710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40A2-E3A2-49EB-98D2-6C1F9AF2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0A360-8180-404D-A68E-FEA19C25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F8F13-2C6E-4D01-8186-2B472CD1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F698F-91E3-4DA8-9213-923E25D1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F30-D073-4A95-B4F4-4E24F71B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22B9D-82BC-4366-8D29-D67A48E5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5D259-7B35-4C71-B0F8-79BC53FC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96312-6671-4076-BF33-95F3DBD5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C2463-4C96-4DBF-9101-C7FCF6A5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DD8AE-03CA-480F-AB7D-170B6F50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0BD06-B8F2-403B-8C8D-F2B30C84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74B2B-386A-4156-BD4E-61E7B1CF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F2024-4C2B-4403-8394-3A8E2BD9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4CE02-42A2-47FB-A8E7-D45221CD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1E73F-410E-4076-BA6A-103DB983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4C8-8E3E-47FC-9540-F8B2B561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0FFA6-1B81-4BD1-8C68-179FE1D0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B3132-C803-41F5-A074-9E855142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DE46B-1D5D-4023-AC4B-D2CA51A7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00812-3B37-4AF2-A979-E62B1533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FBA78-3DCC-4A1F-BCC4-8570FCDB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EC89E-5CCE-4494-9F74-64A01291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C8E95-1642-4786-BBCB-9F0CA160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CAF3B-CCCF-4B39-8093-B2118673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365C5-2C39-430A-A51C-8427D135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73E43-F33A-428D-84D4-A6092F86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48B-507F-499B-917C-FBF914C1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E204B-F3A7-4D50-9D43-950ECC3D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5E707-BBA6-4726-A52E-8E2F173B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41ED3-0A00-4C56-93CD-7BC02C6B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1E788-CFE6-4750-8DA9-7B283FF7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4A074-6C51-4413-863F-24DF8F91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170B3-958F-429A-8267-64AD1CF3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8616C-1541-4115-AD58-529D4413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D148C-1B36-4CE0-ADEE-597DFC75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1849D-98C3-41FD-8E13-6054F86E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AF499-7633-453B-B20A-5059D2FC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5B6-2EBD-43AE-A5C0-8B9C1118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5C58B-2301-4336-A9F5-C0885E2E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7059A-3FEB-4FC6-BE0A-41F26430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39BC4-8C7F-45D6-8B7B-9F46330E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89C0E-6A12-43F4-9D76-F76A840C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D41DF-97D8-4C51-B054-140588D7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BAFD3-EBD1-4964-9FA7-150CB25D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9ABA1-6AB0-46E1-852F-D2E67258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73991-A010-408F-AC2E-6AF41AD3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616E0-E8A5-4FF9-96D5-B7AB2964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CC8D1-89C2-460B-9487-1040EB7B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D09-CFFD-4A59-BD8A-647B6589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06F01-0AE8-4A15-8527-62B7FC3A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F1C8A-B3EA-41D8-9765-DA9F1C01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52408-1A5E-49FC-802E-617197F3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88EB6-E826-4F4C-B326-E8714437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0563D-126B-45ED-B032-D450A0FC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9AD56-FC60-4C56-AE6B-5A5B83AE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CF45E-47F6-4388-926F-5E991485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69D8-56C4-4D5A-8CF7-E99866AAA623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5392-3B98-4332-BB93-C92BBE7A404B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099F-3C8D-442C-891A-E817F9605688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058F-22D9-418E-A52E-7DC32E93CB03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A2E2-635D-4EBD-881D-B939838849DD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F665-E90C-43EC-834F-3177D75B7EA7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4011-4BE4-4F5B-974C-B2F37A8051F9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11AC-9EF1-4694-BA06-0AC6EF7B1D70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Petri Ne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Segnaposto numero diapositiva 1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4EE7-A639-49BF-9789-CB45AF2DE2E2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bpm-book-weske_098.png"/>
          <p:cNvPicPr/>
          <p:nvPr/>
        </p:nvPicPr>
        <p:blipFill>
          <a:blip r:embed="rId1"/>
          <a:stretch/>
        </p:blipFill>
        <p:spPr>
          <a:xfrm>
            <a:off x="685800" y="1914480"/>
            <a:ext cx="7772400" cy="30290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mple petri net – single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76E4-6488-4924-B5A7-D689CB99BAA4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ttangolo 3"/>
          <p:cNvSpPr/>
          <p:nvPr/>
        </p:nvSpPr>
        <p:spPr>
          <a:xfrm>
            <a:off x="900000" y="4076640"/>
            <a:ext cx="6840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CasellaDiTesto 4"/>
          <p:cNvSpPr/>
          <p:nvPr/>
        </p:nvSpPr>
        <p:spPr>
          <a:xfrm>
            <a:off x="2176200" y="4941720"/>
            <a:ext cx="500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GIVE THE FORMAL DEFINITION OF THE PET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in term of set T, P, F, pre-set e post-set!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" descr="bpm-book-weske_099.png"/>
          <p:cNvPicPr/>
          <p:nvPr/>
        </p:nvPicPr>
        <p:blipFill>
          <a:blip r:embed="rId1"/>
          <a:stretch/>
        </p:blipFill>
        <p:spPr>
          <a:xfrm>
            <a:off x="685800" y="1920960"/>
            <a:ext cx="7772400" cy="3016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mple petri net – multiple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35DE-6B85-4373-B3D2-5A65D6644B67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ttangolo 6"/>
          <p:cNvSpPr/>
          <p:nvPr/>
        </p:nvSpPr>
        <p:spPr>
          <a:xfrm>
            <a:off x="900000" y="4076640"/>
            <a:ext cx="6840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CasellaDiTesto 7"/>
          <p:cNvSpPr/>
          <p:nvPr/>
        </p:nvSpPr>
        <p:spPr>
          <a:xfrm>
            <a:off x="2298240" y="4941720"/>
            <a:ext cx="47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What are the instance activ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Give the marking for earch active instanc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" descr="bpm-book-weske_100.png"/>
          <p:cNvPicPr/>
          <p:nvPr/>
        </p:nvPicPr>
        <p:blipFill>
          <a:blip r:embed="rId1"/>
          <a:stretch/>
        </p:blipFill>
        <p:spPr>
          <a:xfrm>
            <a:off x="2050920" y="1371600"/>
            <a:ext cx="5880240" cy="4800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fe-petri net or 1-bound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BFDB-61F0-4AC9-AEFD-C4287CE4CB2B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bpm-book-weske_101.png"/>
          <p:cNvPicPr/>
          <p:nvPr/>
        </p:nvPicPr>
        <p:blipFill>
          <a:blip r:embed="rId1"/>
          <a:stretch/>
        </p:blipFill>
        <p:spPr>
          <a:xfrm>
            <a:off x="685800" y="1932120"/>
            <a:ext cx="7772400" cy="29923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mple Petri net – multiple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78B5-F0D9-474F-A92B-0FB46E99B13E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itolo 1"/>
          <p:cNvSpPr/>
          <p:nvPr/>
        </p:nvSpPr>
        <p:spPr>
          <a:xfrm>
            <a:off x="1066680" y="304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CasellaDiTesto 6"/>
          <p:cNvSpPr/>
          <p:nvPr/>
        </p:nvSpPr>
        <p:spPr>
          <a:xfrm>
            <a:off x="2267640" y="494172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GIVE THE MARKING FOR EACH INSTANCE!!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bpm-book-weske_102.png"/>
          <p:cNvPicPr/>
          <p:nvPr/>
        </p:nvPicPr>
        <p:blipFill>
          <a:blip r:embed="rId1"/>
          <a:stretch/>
        </p:blipFill>
        <p:spPr>
          <a:xfrm>
            <a:off x="685800" y="1584360"/>
            <a:ext cx="7772400" cy="368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Colured 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4941720"/>
            <a:ext cx="822960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In the context of colured petri net tokens are typed so that difference instances are always address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0C82-82BA-487C-A967-0BBAA3A32CB9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24" name="Segnaposto contenuto 4" descr="semaforo.gif"/>
          <p:cNvPicPr/>
          <p:nvPr/>
        </p:nvPicPr>
        <p:blipFill>
          <a:blip r:embed="rId1"/>
          <a:srcRect l="-57288" t="0" r="-57288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2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513E-C9F6-47DF-A104-A9BEB78D8629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CasellaDiTesto 5"/>
          <p:cNvSpPr/>
          <p:nvPr/>
        </p:nvSpPr>
        <p:spPr>
          <a:xfrm>
            <a:off x="324000" y="184464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Modelling using petri net the traffic light scena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28" name="Segnaposto contenuto 4" descr="semaforo.gif"/>
          <p:cNvPicPr/>
          <p:nvPr/>
        </p:nvPicPr>
        <p:blipFill>
          <a:blip r:embed="rId1"/>
          <a:srcRect l="-57288" t="0" r="-57288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2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1246-7C82-4D7F-999D-684E9B0CA8F4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CasellaDiTesto 5"/>
          <p:cNvSpPr/>
          <p:nvPr/>
        </p:nvSpPr>
        <p:spPr>
          <a:xfrm>
            <a:off x="324000" y="1844640"/>
            <a:ext cx="302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Modelling using petri net tw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traffic l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mplete the net in such a way that the two lights can never be green at the same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Immagine 2" descr="semaforo.gif"/>
          <p:cNvPicPr/>
          <p:nvPr/>
        </p:nvPicPr>
        <p:blipFill>
          <a:blip r:embed="rId2"/>
          <a:stretch/>
        </p:blipFill>
        <p:spPr>
          <a:xfrm>
            <a:off x="6516720" y="1916280"/>
            <a:ext cx="20318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4"/>
          <p:cNvSpPr/>
          <p:nvPr/>
        </p:nvSpPr>
        <p:spPr>
          <a:xfrm>
            <a:off x="539640" y="1484280"/>
            <a:ext cx="771048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:  The reachability tree, also called marking graph, of a Petri net (N, M0) is a graph in whi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nodes corresponds to reachable marking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arcs correpond to feasible transi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Remark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: the reachability tree of an unbounded PN is unlimi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3" name="Object 2"/>
          <p:cNvGraphicFramePr/>
          <p:nvPr/>
        </p:nvGraphicFramePr>
        <p:xfrm>
          <a:off x="755640" y="3500280"/>
          <a:ext cx="436248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500280"/>
                    <a:ext cx="4362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3"/>
          <p:cNvGraphicFramePr/>
          <p:nvPr/>
        </p:nvGraphicFramePr>
        <p:xfrm>
          <a:off x="684360" y="4292640"/>
          <a:ext cx="403848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292640"/>
                    <a:ext cx="40384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4"/>
          <p:cNvGraphicFramePr/>
          <p:nvPr/>
        </p:nvGraphicFramePr>
        <p:xfrm>
          <a:off x="611280" y="5661000"/>
          <a:ext cx="584820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661000"/>
                    <a:ext cx="5848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10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0" y="27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achability tre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539640" y="1484280"/>
            <a:ext cx="813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Symbol "w"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implying « as great as possible » with the following propert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w &gt; n, w ± n = w, for all integer n and w ≥ 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verability tre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5" name="Espace réservé du pied de page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65D0-BD58-4116-AE04-2BD1F7BE6B05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11397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9" name="Object 5"/>
          <p:cNvGraphicFramePr/>
          <p:nvPr/>
        </p:nvGraphicFramePr>
        <p:xfrm>
          <a:off x="324000" y="2205000"/>
          <a:ext cx="214308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05000"/>
                    <a:ext cx="21430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2" name="Object 7"/>
          <p:cNvGraphicFramePr/>
          <p:nvPr/>
        </p:nvGraphicFramePr>
        <p:xfrm>
          <a:off x="3564000" y="2565360"/>
          <a:ext cx="191448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2565360"/>
                    <a:ext cx="19144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ZoneTexte 16"/>
          <p:cNvSpPr/>
          <p:nvPr/>
        </p:nvSpPr>
        <p:spPr>
          <a:xfrm>
            <a:off x="5292720" y="242100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1 covers M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epeat t1 leads  to w tokens in p2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eplace M1 by [0, w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5" name="Object 10"/>
          <p:cNvGraphicFramePr/>
          <p:nvPr/>
        </p:nvGraphicFramePr>
        <p:xfrm>
          <a:off x="3564000" y="3573360"/>
          <a:ext cx="2827440" cy="257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3573360"/>
                    <a:ext cx="28274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ZoneTexte 18"/>
          <p:cNvSpPr/>
          <p:nvPr/>
        </p:nvSpPr>
        <p:spPr>
          <a:xfrm>
            <a:off x="2627280" y="2708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tep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2627280" y="407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tep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248436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tep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aw the reachability graph of the n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FD2C-DDB9-4559-8FBA-FF819478842F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Immagine 5" descr="semaforo.gif"/>
          <p:cNvPicPr/>
          <p:nvPr/>
        </p:nvPicPr>
        <p:blipFill>
          <a:blip r:embed="rId1"/>
          <a:stretch/>
        </p:blipFill>
        <p:spPr>
          <a:xfrm>
            <a:off x="6516720" y="1916280"/>
            <a:ext cx="2031840" cy="2616120"/>
          </a:xfrm>
          <a:prstGeom prst="rect">
            <a:avLst/>
          </a:prstGeom>
          <a:ln w="0">
            <a:noFill/>
          </a:ln>
        </p:spPr>
      </p:pic>
      <p:pic>
        <p:nvPicPr>
          <p:cNvPr id="464" name="Immagine 6" descr="semaforo.gif"/>
          <p:cNvPicPr/>
          <p:nvPr/>
        </p:nvPicPr>
        <p:blipFill>
          <a:blip r:embed="rId2"/>
          <a:stretch/>
        </p:blipFill>
        <p:spPr>
          <a:xfrm>
            <a:off x="4067280" y="2997360"/>
            <a:ext cx="20318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Carl Adam Pet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418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roduced in 1962 (Petri’s PhD thesis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60’s and 70’s main focus on theory 80‘s focus on tools and application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w applied in several fiel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ccess due to simple and clean graphical and conceptual represen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70D7-07DF-45AC-BA0E-17E79062F6B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Immagine 4" descr="Carl_adam_petri.jpg"/>
          <p:cNvPicPr/>
          <p:nvPr/>
        </p:nvPicPr>
        <p:blipFill>
          <a:blip r:embed="rId1"/>
          <a:stretch/>
        </p:blipFill>
        <p:spPr>
          <a:xfrm>
            <a:off x="5580000" y="1916280"/>
            <a:ext cx="2705040" cy="3225600"/>
          </a:xfrm>
          <a:prstGeom prst="rect">
            <a:avLst/>
          </a:prstGeom>
          <a:ln w="0">
            <a:noFill/>
          </a:ln>
        </p:spPr>
      </p:pic>
      <p:sp>
        <p:nvSpPr>
          <p:cNvPr id="372" name="CasellaDiTesto 5"/>
          <p:cNvSpPr/>
          <p:nvPr/>
        </p:nvSpPr>
        <p:spPr>
          <a:xfrm>
            <a:off x="601200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1926 – 201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Mapping from BPMN to Petri Ne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apping a Need for Verific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siness Processes are typically defined by business experts which ask for graphical and user-friendly nota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Most notations such as BPMN 2.0 used typically lack precisely defined semantics limiting the possibility of analysi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In order to formally analysis Business Process we need to derive a formal model  of the Business Process being verifi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From BPMN 2.0 to Petri Net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From BPMN 2.0 to Process Algebra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From ... To … 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6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9634-66B4-4F40-9BFC-5951594C4A1A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rom BPMN 2.0 to Petri Net (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10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Raedts et. al, 2007 -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Raedts, I., Petkovic, M., Usenko, Y. S., van der Werf, J. M., Groote, J. F., and Somers, L. J. (2007). Transformation of BPMN models for Behaviour Analysi, In MSVVEIS, pages 126-137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It converts BPMN 2.0 to Petri Nets extended with inhibitor and reset arcs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The proposed mapping is not comprehensive enough in order to clearly address all the BPMN 2.0 elements (i.e. messages, sub-process and loop activity are not included)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Awad, 2010 -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Awad, A., Decker, G., and Lohmann, N. (2010). Diagnosing and repairing data anomalies in process models. BPM Workshops, vol. 43 of Lecture Notes in Business Information Processing, pp. 5-16. Springer.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It formalizes the basic data object together with the more traditional control flow element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It is missed a more general and complex mapping on the BPMN 2.0 elements such as sub-process, messages, etc.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rom BPMN 2.0 to Petri Net (I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240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  <a:ea typeface="Gill Sans"/>
              </a:rPr>
              <a:t>Dijkman, R. M., Dumas, M., and Ouyang, C. (2008). Semantics and analysis of business process models in BPMN. Inf. Softw.  Technol., 50(12):1281-1294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326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p to our review it the most complete methodology to transform BPMN 2.0 models into Petri 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spcBef>
                <a:spcPts val="326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It starts from the basic elements and introduces some more details regarding multiple instances, sub-process and exception handling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spcBef>
                <a:spcPts val="326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It can be easy extended  to the whole specification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F337-F9E6-4265-B64C-07B49A99D0C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5" name="Immagine 4" descr="SelectedMapping.png"/>
          <p:cNvPicPr/>
          <p:nvPr/>
        </p:nvPicPr>
        <p:blipFill>
          <a:blip r:embed="rId1"/>
          <a:stretch/>
        </p:blipFill>
        <p:spPr>
          <a:xfrm>
            <a:off x="2050920" y="2924280"/>
            <a:ext cx="47642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cro expansions for repeated activiti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77" name="Segnaposto contenuto 4" descr="Schermata 2015-01-13 alle 23.01.27.png"/>
          <p:cNvPicPr/>
          <p:nvPr/>
        </p:nvPicPr>
        <p:blipFill>
          <a:blip r:embed="rId1"/>
          <a:srcRect l="0" t="-108685" r="0" b="-108685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78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74D9-A974-42AF-9F02-0B9934743B43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64653"/>
                </a:solidFill>
                <a:latin typeface="Bookman Old Style"/>
              </a:rPr>
              <a:t>Macro expansion for a multi-instance activity where n is known at design time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0" name="Segnaposto contenuto 4" descr="Schermata 2015-01-13 alle 23.01.34.png"/>
          <p:cNvPicPr/>
          <p:nvPr/>
        </p:nvPicPr>
        <p:blipFill>
          <a:blip r:embed="rId1"/>
          <a:srcRect l="0" t="-47673" r="0" b="-47673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8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DAAF-8467-4642-A1CD-5A9D117686A3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pping of a task with an exception flow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3" name="Segnaposto contenuto 4" descr="Schermata 2015-01-13 alle 22.59.40.png"/>
          <p:cNvPicPr/>
          <p:nvPr/>
        </p:nvPicPr>
        <p:blipFill>
          <a:blip r:embed="rId1"/>
          <a:srcRect l="0" t="-115496" r="0" b="-115496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8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13D8-B9EA-4880-83F0-BFDF0DABCCFF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pping of message flows between BPMN proce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6" name="Segnaposto contenuto 4" descr="Schermata 2015-01-13 alle 22.58.03.png"/>
          <p:cNvPicPr/>
          <p:nvPr/>
        </p:nvPicPr>
        <p:blipFill>
          <a:blip r:embed="rId1"/>
          <a:srcRect l="0" t="-11046" r="0" b="-11046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87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2471-C211-4C1C-99BC-6FD0094279A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9" name="Segnaposto contenuto 4" descr="mapping1.jpg"/>
          <p:cNvPicPr/>
          <p:nvPr/>
        </p:nvPicPr>
        <p:blipFill>
          <a:blip r:embed="rId1"/>
          <a:srcRect l="-12496" t="0" r="-12496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0340-2A6F-4BF5-A15F-6C1D9BA09E7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step 1 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2" name="Segnaposto contenuto 4" descr="step-ab.png"/>
          <p:cNvPicPr/>
          <p:nvPr/>
        </p:nvPicPr>
        <p:blipFill>
          <a:blip r:embed="rId1"/>
          <a:srcRect l="-8028" t="0" r="-8028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3B7C-8065-481B-ACC6-7EF9A958A680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mal and abstract business process specific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orma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the semantics of process becomes well defined and not ambiguo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bstrac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execution environment is disregarded (Remind about separation of concern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tri Net can be used to model dynamic system with a static structur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static structure is represented by a Petri Net (process level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dynamic behavior is capture by the token play of the Petri Net (instance level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949A-53CB-48BE-A912-5DAFC04DAF65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step 2 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5" name="Segnaposto contenuto 4" descr="step-cd.jpg"/>
          <p:cNvPicPr/>
          <p:nvPr/>
        </p:nvPicPr>
        <p:blipFill>
          <a:blip r:embed="rId1"/>
          <a:srcRect l="-12496" t="0" r="-12496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6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F29A-88A9-489F-BE19-F668B5B145F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step 3 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8" name="Segnaposto contenuto 4" descr="step-e.png"/>
          <p:cNvPicPr/>
          <p:nvPr/>
        </p:nvPicPr>
        <p:blipFill>
          <a:blip r:embed="rId1"/>
          <a:srcRect l="0" t="-17903" r="0" b="-17903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0647-3F2E-45B7-9671-FC8FD9C8C9D8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01" name="Segnaposto contenuto 4" descr="MappingB.png"/>
          <p:cNvPicPr/>
          <p:nvPr/>
        </p:nvPicPr>
        <p:blipFill>
          <a:blip r:embed="rId1"/>
          <a:srcRect l="0" t="-15509" r="0" b="-15509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50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BDF7-2FED-4C6B-A335-6838117756F2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04" name="Segnaposto contenuto 4" descr="mapping2.jpg"/>
          <p:cNvPicPr/>
          <p:nvPr/>
        </p:nvPicPr>
        <p:blipFill>
          <a:blip r:embed="rId1"/>
          <a:srcRect l="-12496" t="0" r="-12496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50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FC2E-6CE4-45D1-9FC3-8925DEF8A87A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228600"/>
            <a:ext cx="7859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leme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b8cd"/>
                </a:solidFill>
                <a:latin typeface="Gill Sans MT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b8cd"/>
                </a:solidFill>
                <a:latin typeface="Gill Sans MT"/>
              </a:rPr>
              <a:t>Trans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lace can stand for a state a medium a buffer a condition a repository of resources a type 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transition can stand for an event an operation a transformation a transportation a task an activity 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1960-650C-4954-971B-E0766A6BB57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Segnaposto contenuto 8"/>
          <p:cNvSpPr/>
          <p:nvPr/>
        </p:nvSpPr>
        <p:spPr>
          <a:xfrm>
            <a:off x="468360" y="5084640"/>
            <a:ext cx="8370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token can stand for a physical object a piece of data a resource an activation mark a message a document a case 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egnaposto testo 7"/>
          <p:cNvSpPr/>
          <p:nvPr/>
        </p:nvSpPr>
        <p:spPr>
          <a:xfrm>
            <a:off x="2484360" y="4437000"/>
            <a:ext cx="404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b8cd"/>
                </a:solidFill>
                <a:latin typeface="Gill Sans MT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 Petri Net is a tuple (P, T, F, M</a:t>
            </a:r>
            <a:r>
              <a:rPr b="0" lang="it-IT" sz="26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) whe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P is a finite set of places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T is a finite set of transitions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F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⊆ (P X T) U (T X U) is a flow relation;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M : P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N is the initial marking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 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86" name="Segnaposto numero diapositiva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0140-67E9-4D8A-9B8E-3B1A0FEBCC7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rk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 Marking M: P → N denotes the number of tokens in each pla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The marking of a Petri net represents its sta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Gill Sans MT"/>
              </a:rPr>
              <a:t>M (a) = 0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 denotes the absence of tokens in a place </a:t>
            </a:r>
            <a:r>
              <a:rPr b="0" i="1" lang="it-IT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85AD-A869-43AC-8F1D-FA6D5DB453D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iring a trasi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Let (P,  T,  F) be a Petri net and M a marking. The firing of a transition is represented by a state change of the Petri n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M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’ indicates that by firing t, the state of the Petri net changes from M to M’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M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’ indicates that there is a transition t such that M →M’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M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  <a:ea typeface="ＭＳ Ｐゴシック"/>
              </a:rPr>
              <a:t>1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</a:t>
            </a:r>
            <a:r>
              <a:rPr b="0" lang="it-IT" sz="2300" spc="-1" strike="noStrike" baseline="-25000">
                <a:solidFill>
                  <a:srgbClr val="464653"/>
                </a:solidFill>
                <a:latin typeface="Gill Sans MT"/>
                <a:ea typeface="ＭＳ Ｐゴシック"/>
              </a:rPr>
              <a:t>n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 means that there is a sequence of transition           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 t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</a:rPr>
              <a:t>1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, t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</a:rPr>
              <a:t>2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, … , t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</a:rPr>
              <a:t>n-1 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for 1&lt;= i &lt; 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A state M’ is reachable from a state M if and only if M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’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92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8D9E-5355-46DC-AF18-4E3AE2C54B79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CasellaDiTesto 2"/>
          <p:cNvSpPr/>
          <p:nvPr/>
        </p:nvSpPr>
        <p:spPr>
          <a:xfrm>
            <a:off x="715140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CasellaDiTesto 6"/>
          <p:cNvSpPr/>
          <p:nvPr/>
        </p:nvSpPr>
        <p:spPr>
          <a:xfrm>
            <a:off x="1534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re-set and Post-set - Transi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C867-C618-43C7-AA09-0223445E9D2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Immagine 3" descr="Schermata 2013-10-21 a 17.05.28.png"/>
          <p:cNvPicPr/>
          <p:nvPr/>
        </p:nvPicPr>
        <p:blipFill>
          <a:blip r:embed="rId1"/>
          <a:stretch/>
        </p:blipFill>
        <p:spPr>
          <a:xfrm>
            <a:off x="826920" y="1844640"/>
            <a:ext cx="742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re-set and Post-set - Pla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E29C-332C-4465-8800-A1B347D75983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Immagine 3" descr="Schermata 2013-10-21 a 17.06.52.png"/>
          <p:cNvPicPr/>
          <p:nvPr/>
        </p:nvPicPr>
        <p:blipFill>
          <a:blip r:embed="rId1"/>
          <a:stretch/>
        </p:blipFill>
        <p:spPr>
          <a:xfrm>
            <a:off x="266760" y="1914480"/>
            <a:ext cx="8610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9:02:22Z</dcterms:created>
  <dc:creator>Barbara Re</dc:creator>
  <dc:description/>
  <dc:language>en-US</dc:language>
  <cp:lastModifiedBy>Barbara Re</cp:lastModifiedBy>
  <cp:lastPrinted>2014-09-13T18:02:50Z</cp:lastPrinted>
  <dcterms:modified xsi:type="dcterms:W3CDTF">2015-01-22T13:34:06Z</dcterms:modified>
  <cp:revision>250</cp:revision>
  <dc:subject>Lezioni Laboratorio Informatico per i database turistici</dc:subject>
  <dc:title>Presentazione corso</dc:title>
</cp:coreProperties>
</file>